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68DC-5802-48C1-9E53-9CE00322A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391C-587F-45C7-8749-A822D39FD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FCEF-49FD-46D3-B03B-0465D9AE61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46AA-46DF-4B4A-A9DC-0291E65D9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284-B216-4FC3-ABD4-20E09446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B02-84A6-486E-8516-F774B08E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1828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22160" y="198108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1828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22160" y="4130640"/>
            <a:ext cx="333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7D7-76E7-478F-9F5C-68869D6C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6123-A81D-4344-BCAA-CC676ACD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A4A-C84A-4E21-859A-48067706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BC7-E9B6-4F30-B9EA-E1B74B01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511A-0BCA-4127-B937-F30305F1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10363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CBE-918A-46E1-B81B-BBCBE53B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979-E827-4D0B-8881-9C39256E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4400" y="413064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91D5-1B2C-43B8-ACF9-ECED8C19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4400" y="1981080"/>
            <a:ext cx="5057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30640"/>
            <a:ext cx="10363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B55-A0FA-4EB6-BD0E-4D80CD65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DDC3-C1C5-4747-AC90-1757052D9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76040" y="3279240"/>
            <a:ext cx="8358120" cy="34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演題発表に関連し、開示すべ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 I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関係にある企業などとして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①顧問：                                       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②株保有・利益：   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③特許使用料： 　　　　　　　　　　　 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④講演料： 　　　　　　　　　　　　　　 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⑤原稿料：                                    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⑥受託研究・共同研究費：            ○○製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⑦奨学寄付金：                           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○○製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⑧寄附講座所属：                    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あり（○○製薬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⑨贈答品などの報酬：                 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な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66200" y="933120"/>
            <a:ext cx="10945800" cy="21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回日本救急医学会関東地方会学術集会・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回救急隊員学術研究会</a:t>
            </a:r>
            <a:br>
              <a:rPr sz="40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ＣＯ Ｉ 開示</a:t>
            </a:r>
            <a:br>
              <a:rPr sz="36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br>
              <a:rPr sz="2000"/>
            </a:b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筆頭発表者名：　○○　○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正方形/長方形 3"/>
          <p:cNvSpPr/>
          <p:nvPr/>
        </p:nvSpPr>
        <p:spPr>
          <a:xfrm>
            <a:off x="2875320" y="-17640"/>
            <a:ext cx="14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ライド例</a:t>
            </a: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研究会口頭発表時、申告すべきＣＯＩ状態がある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正方形/長方形 4"/>
          <p:cNvSpPr/>
          <p:nvPr/>
        </p:nvSpPr>
        <p:spPr>
          <a:xfrm>
            <a:off x="196920" y="792000"/>
            <a:ext cx="11528280" cy="5867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200" y="933120"/>
            <a:ext cx="10945800" cy="21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7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回日本救急医学会関東地方会学術集会・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0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回救急隊員学術研究会</a:t>
            </a:r>
            <a:br>
              <a:rPr sz="4000"/>
            </a:b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ＣＯ Ｉ 開示</a:t>
            </a:r>
            <a:br>
              <a:rPr sz="3600"/>
            </a:b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br>
              <a:rPr sz="2000"/>
            </a:br>
            <a:r>
              <a:rPr b="1" i="1" lang="ja-JP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筆頭発表者名：　○○　○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正方形/長方形 3"/>
          <p:cNvSpPr/>
          <p:nvPr/>
        </p:nvSpPr>
        <p:spPr>
          <a:xfrm>
            <a:off x="2875320" y="-17640"/>
            <a:ext cx="145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【</a:t>
            </a: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ライド例</a:t>
            </a:r>
            <a:r>
              <a:rPr b="1" lang="en-US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研究会口頭発表時、申告すべきＣＯＩ状態がない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正方形/長方形 4"/>
          <p:cNvSpPr/>
          <p:nvPr/>
        </p:nvSpPr>
        <p:spPr>
          <a:xfrm>
            <a:off x="196920" y="792000"/>
            <a:ext cx="11528280" cy="5867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787480" y="4002120"/>
            <a:ext cx="76917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演題発表に関連し、開示すべ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 I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関係にあ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企業などはありませ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5:05:50Z</dcterms:created>
  <dc:creator>Travis Alexander Yano</dc:creator>
  <dc:description/>
  <dc:language>en-US</dc:language>
  <cp:lastModifiedBy>grenoble</cp:lastModifiedBy>
  <dcterms:modified xsi:type="dcterms:W3CDTF">2022-12-20T07:34:04Z</dcterms:modified>
  <cp:revision>93</cp:revision>
  <dc:subject/>
  <dc:title>PowerPoint Presentation</dc:title>
</cp:coreProperties>
</file>